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E97-4D25-449F-A488-CEDD2EB812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120-8665-4876-AF69-F9A1D9BB340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28E9-9ACB-437F-9246-459355D6458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C951-A806-421B-8D24-3D35AA39137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270-0460-4FCE-B4CC-FD7889523D8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하는 페이지를 모두 쉽게 찾아갈 수 있도록 메뉴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헤매지 않도록 사이트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위메뉴 버튼 등 제공하기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793-B37C-4369-9A5C-E864B9A2B40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0BBF-236B-46C5-84ED-0F0CD9563A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030-CF8F-43AF-B0AB-047E00C07A1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25E-1808-4FE5-AD34-291D945F439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436-DC9B-4007-AFAE-216580105F0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6789-3DF9-4737-9964-0A8DED9EA8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1B1-64D5-4770-8821-8931B8A8CDB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564C-C1CE-469B-AE77-E622A45999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67D7-FE77-4EF9-B517-59063EB8090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791A-046F-45D7-B692-C0BC7F180AA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C57B-5491-4515-AA8B-AA5F1566CE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84F3-424E-4F2E-9A41-27E2CD6C189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CEB0-1A33-45A9-8995-FD2C0FB133E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BF72-C365-4A3F-93A5-C94CEB395F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F7A5-0D18-4255-A51E-9596A8E8401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676-791A-4C17-A4E3-AC5BBCBCA9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2444-F9D3-495C-BCB4-73474113734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21D6-A795-4A17-8ECC-3B7719B61B5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도하게 긴 설명문 금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지와 텍스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멀티미디어 적절하게 활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A7EA-37A3-4FF8-A6C8-42AEE8CEDEE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269-C662-4125-9680-729D0E53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475-1EA8-4B49-BF5A-7FC1D7C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8F0-B980-4006-AA1F-E9FC2EE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41A-3153-4CC9-BD58-236B33B0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F87-67F4-4003-87AC-C0B25AF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9E8-095F-4D03-8BAE-942FE2B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A8F-8E2C-430F-B555-529C26D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B7F-A2B8-4F78-8ADD-5943B392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9E5-9C6B-4BF9-B9BC-D4661F58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2BB-631D-4CAA-AFEF-E964854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D53-8E7A-4D0C-BBC1-C4AA079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438-2C37-4030-A683-622C0CE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45BD-A919-43D2-A068-2F78129CB29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0x10.co.kr/" TargetMode="External"/><Relationship Id="rId2" Type="http://schemas.openxmlformats.org/officeDocument/2006/relationships/hyperlink" Target="http://yes24.com/" TargetMode="External"/><Relationship Id="rId3" Type="http://schemas.openxmlformats.org/officeDocument/2006/relationships/hyperlink" Target="http://www.24hz.com/" TargetMode="External"/><Relationship Id="rId4" Type="http://schemas.openxmlformats.org/officeDocument/2006/relationships/hyperlink" Target="http://library.snu.ac.kr/" TargetMode="External"/><Relationship Id="rId5" Type="http://schemas.openxmlformats.org/officeDocument/2006/relationships/hyperlink" Target="http://www.worldcat.org/" TargetMode="External"/><Relationship Id="rId6" Type="http://schemas.openxmlformats.org/officeDocument/2006/relationships/hyperlink" Target="http://www.mcst.go.kr/main.jsp" TargetMode="External"/><Relationship Id="rId7" Type="http://schemas.openxmlformats.org/officeDocument/2006/relationships/hyperlink" Target="http://www.egov.go.kr/" TargetMode="External"/><Relationship Id="rId8" Type="http://schemas.openxmlformats.org/officeDocument/2006/relationships/hyperlink" Target="http://www.chungnam.ac.kr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어떤 홈페이지가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좋은 홈페이지인가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9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동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목적에 필요한 기능의 구현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쇼핑몰이라면 당연히 검색과 결제 기능이 있어야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학회 홈페이지에서는 학회지 구독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논문 투고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회비 결제 등의 기능이 있어야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학과 홈페이지에서는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상식적이고 간편한 사용자 조작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적절한 아이콘과 하이퍼텍스트의 사용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최근 마우스를 이용한 드래그 등도 자주 사용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디자인의 일관성과 단순성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페이지마다 글꼴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형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header, tail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등 통일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배경보다 전달하고자 하는 내용이 돋보이도록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항해 용이성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충남대학교 자유전공학부 홈페이지에서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다빈치 원서강독회 설명 페이지는 어떻게 찾아갈까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다양한 사용자에 대한 고려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작은 화면 사용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모바일 사용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다양한 웹브라우저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48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2920" y="981000"/>
            <a:ext cx="840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63520" y="930240"/>
            <a:ext cx="86295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페이지는 가능한 가볍게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필요 이상으로 너무 크거나 많은 그림은 삼가야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검색에 잘 노출되는 사이트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헤더 타이틀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h1, h2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태그의 적절한 사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텍스트는 텍스트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그림의 대체 텍스트 사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다양한 홈페이지의 목적과 기능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쇼핑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온라인 서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3"/>
              </a:rPr>
              <a:t>음악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4"/>
              </a:rPr>
              <a:t>도서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맑은 고딕"/>
                <a:hlinkClick r:id="rId5"/>
              </a:rPr>
              <a:t>D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6"/>
              </a:rPr>
              <a:t>정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7"/>
              </a:rPr>
              <a:t>전자정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8"/>
              </a:rPr>
              <a:t>학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학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당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학회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개인 홈페이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블로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학원 블로그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사진포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커뮤니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홈페이지의 목적은 무엇이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각 어떤 기능을 구현하고 있을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기타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쇄 용이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사이트 내의 검색 용이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안 문제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아래 사이트에 대한 평가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http://phps.snu.ac.kr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알찬 정보 및 꾸준한 업데이트 中上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절한 정보 전달 형식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텍스트 중심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손쉬운 관리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下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관리 매뉴얼 없음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목적에 따른 기능 구현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친목 下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공지 上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입학 홍보 中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장서 관리 上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정보 저장 및 검색 中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규 공유 下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교수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학생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예비입학생 모두 고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식적이고 간편한 사용자 조작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익숙한 게시판 형식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but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너무 과도한 사용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평가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계속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디자인의 일관성과 단순성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上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항해 용이성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관리자 페이지 접속 힘듬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다양한 사용자에 대한 고려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다양한 브라우저에서 거의 동일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모바일 페이지 없음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영문 페이지 없음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페이지의 가벼움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사진게시판 섬네일의 파일용량 큼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검색에 잘 노출되는 정도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h1, h2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태그 비사용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웹표준 지키지 않음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인쇄 용이성 中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보안 下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배포 중지된 제로보드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사이트 내 검색 용이성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게시판만 검색 가능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팀 발표 준비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충남대학교 자유전공학부 홈페이지의 문제점을 분석하고 개선 방안을 마련하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다른 학과의 홈페이지들에 대한 리뷰 필수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제작 비용과 유지 비용도 고려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발표 준비 과정에서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Google docs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를 활용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발표는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ppt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나 다른 소프트웨어를 활용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발표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9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명확한 목적과 그에 따른 기능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3644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친목 도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공지 게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홍보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자료 저장 및 검색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물건 판매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입장 개진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토론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유용한 정보 전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어떤 방문객들을 고려할 것인가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 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교수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학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예비입학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다양한 방문객의 요구를 어떻게 만족시킬 것인가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좋은 홈페이지의 요건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찬 정보와 지속적인 업데이트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적에 필요한 기능의 구현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식적이고 간편한 사용자 조작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디자인의 일관성과 단순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항해 용이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다양한 사용자에 대한 고려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페이지는 가능한 가볍게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검색에 잘 노출되어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알찬 정보와 지속적인 업데이트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제작보다 지속적인 관리가 중요하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처음부터 관리와 업데이트 용이하게 만들어야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3691" t="4668" r="20267" b="0"/>
          <a:stretch/>
        </p:blipFill>
        <p:spPr>
          <a:xfrm>
            <a:off x="0" y="18900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3" name="직선 연결선 5"/>
          <p:cNvSpPr/>
          <p:nvPr/>
        </p:nvSpPr>
        <p:spPr>
          <a:xfrm>
            <a:off x="3708360" y="4149720"/>
            <a:ext cx="215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웹에 맞는 정보 전달 형식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0" t="0" r="13996" b="0"/>
          <a:stretch/>
        </p:blipFill>
        <p:spPr>
          <a:xfrm>
            <a:off x="66600" y="404640"/>
            <a:ext cx="89694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0-18T13:08:52Z</dcterms:modified>
  <cp:revision>20</cp:revision>
  <dc:subject/>
  <dc:title>컴퓨터는 어떻게  덧셈, 뺄셈을 할까?</dc:title>
</cp:coreProperties>
</file>